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wmf" ContentType="image/x-wmf"/>
  <Override PartName="/ppt/media/image5.png" ContentType="image/png"/>
  <Override PartName="/ppt/media/image10.png" ContentType="image/png"/>
  <Override PartName="/ppt/media/image6.wmf" ContentType="image/x-wmf"/>
  <Override PartName="/ppt/media/image7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4F385-742D-4348-9C8E-0C55F056B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72967-E13E-4063-BBD8-4766641E8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D3FE8-142A-4F91-B713-F000B4E31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F2BEB-4179-4D29-850B-5C1DCE417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BE1CB-48BF-46B6-98B0-AEEA610F3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6CB1C-2BAA-491F-B5E3-70A1CB046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A96D9-FDEB-4437-84D0-5E4152C6C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32718-1C1C-44D4-A30D-1C0197CDA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51AE0-0C70-4FFF-A368-34FAFF66A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74619-FBA0-49CB-8ADE-F8213C265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77B46-28FA-4F9F-ABFB-88DC6DF94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CD0D1-3920-4663-BF5F-14926F508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E3EE5-CA2D-4373-9EE4-BCAF6A514A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4.wmf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hyperlink" Target="http://bensguide.gpo.gov/3-5/state/idaho.html" TargetMode="Externa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38680" y="4876920"/>
            <a:ext cx="32767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48520" y="4876920"/>
            <a:ext cx="2895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nny                       Period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er #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/20/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762120" y="762120"/>
            <a:ext cx="7162560" cy="342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Bottom">
              <a:avLst>
                <a:gd name="adj" fmla="val 68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Idaho</a:t>
            </a:r>
            <a:endParaRPr b="0" lang="en-US" sz="18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762120" y="4495680"/>
            <a:ext cx="3352680" cy="18288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5029200" y="228600"/>
            <a:ext cx="380880" cy="3808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066680" y="647712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p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638680" y="152280"/>
            <a:ext cx="350532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 States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daho So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10/7/2010, www.50states.com/Idah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" dur="2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152280"/>
            <a:ext cx="8229600" cy="655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es name: Idah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pital: Bo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pulation: 1,293,95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tered the Union July 3,1890 43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to: It is for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ickname: Gem st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ower: Syring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rd: Mountain Bluebi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ng: Here we have Idah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aning behind name: an Apache name of uncertain mea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629400" y="2971800"/>
            <a:ext cx="1996920" cy="2162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6858000" y="532620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p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0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esting Fa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oods Idaho is famous for are potatoes, wheat, sugar beets, cattle and much mo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jewelry there known for is Garnets which can be made into braclets, necklaces, rings, and penda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Idaho: Map and State Flag"/>
          <p:cNvPicPr/>
          <p:nvPr/>
        </p:nvPicPr>
        <p:blipFill>
          <a:blip r:embed="rId1"/>
          <a:srcRect l="0" t="0" r="0" b="68426"/>
          <a:stretch/>
        </p:blipFill>
        <p:spPr>
          <a:xfrm>
            <a:off x="457200" y="380880"/>
            <a:ext cx="3657600" cy="32767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Idaho: Map and State Flag"/>
          <p:cNvPicPr/>
          <p:nvPr/>
        </p:nvPicPr>
        <p:blipFill>
          <a:blip r:embed="rId2"/>
          <a:srcRect l="13668" t="35856" r="11114" b="0"/>
          <a:stretch/>
        </p:blipFill>
        <p:spPr>
          <a:xfrm>
            <a:off x="5181480" y="152280"/>
            <a:ext cx="3505320" cy="39625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228600" y="5181480"/>
            <a:ext cx="8686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n’s Guide To U.S Government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Quick Facts: Idaho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/22/2010,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bensguide.gpo.gov/3-5/state/idaho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411480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tate fl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4267080"/>
            <a:ext cx="350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Outline of 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914400" y="3809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p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238880" y="426708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p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9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All images Copyright © 1997 - 2000 WriteLine. All Rights Reserved. marble columns of rotunda"/>
          <p:cNvPicPr/>
          <p:nvPr/>
        </p:nvPicPr>
        <p:blipFill>
          <a:blip r:embed="rId1"/>
          <a:stretch/>
        </p:blipFill>
        <p:spPr>
          <a:xfrm>
            <a:off x="0" y="0"/>
            <a:ext cx="4343400" cy="31114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All images Copyright © 1997 - 2000 WriteLine. All Rights Reserved. historic western town"/>
          <p:cNvPicPr/>
          <p:nvPr/>
        </p:nvPicPr>
        <p:blipFill>
          <a:blip r:embed="rId2"/>
          <a:stretch/>
        </p:blipFill>
        <p:spPr>
          <a:xfrm>
            <a:off x="4114800" y="0"/>
            <a:ext cx="5029200" cy="30481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3200400"/>
            <a:ext cx="419112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tcards From America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Boise Idaho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/23/2010, http://www.postcardsfrom.com/t1/981028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495680" y="3352680"/>
            <a:ext cx="4419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191120" y="3200400"/>
            <a:ext cx="472428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tcards From America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daho City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/23/2010, http://www.postcardsfrom.com/t1/981026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Copyright © 1998 WriteLine. All Rights Reserved. Syringa flower stamp"/>
          <p:cNvPicPr/>
          <p:nvPr/>
        </p:nvPicPr>
        <p:blipFill>
          <a:blip r:embed="rId3"/>
          <a:stretch/>
        </p:blipFill>
        <p:spPr>
          <a:xfrm>
            <a:off x="0" y="4667400"/>
            <a:ext cx="1847880" cy="21906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52280" y="1828800"/>
            <a:ext cx="2438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capital of Boise, Idah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rot="19608600">
            <a:off x="5563440" y="913680"/>
            <a:ext cx="198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This is a tiny town of Idaho 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905120" y="487692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flower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yrin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52480" y="5410080"/>
            <a:ext cx="388620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tcards From America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tate flower Syring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9/23/2010,  http://www.postcardsfrom.com/stamp/stamp-id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6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1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3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3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3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3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0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5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0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5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0T15:24:19Z</dcterms:created>
  <dc:creator>install</dc:creator>
  <dc:description/>
  <dc:language>en-US</dc:language>
  <cp:lastModifiedBy>install</cp:lastModifiedBy>
  <dcterms:modified xsi:type="dcterms:W3CDTF">2010-10-14T15:21:17Z</dcterms:modified>
  <cp:revision>13</cp:revision>
  <dc:subject/>
  <dc:title>Slide 1</dc:title>
</cp:coreProperties>
</file>